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8DB-9DE0-4DBB-9F39-6C7396D8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3E3-82AB-4F87-841C-1A664A0C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71D-0BB4-45BD-B82A-652EDA57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B08-8381-4EDD-A171-1DB29877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E47-A160-4DF1-9A52-3924A799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C8D-9873-4F93-803B-2C4D80D4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B31-CE43-44BF-B706-70F3FF83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565-4DC7-46F6-9259-36866219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394-AB54-472A-BB9F-5BEDFBA1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DD2-B475-4835-90BC-E76B562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D5E-57CF-4AB1-87A0-4DAD065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F70-9E8C-4B3B-9B16-8171014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4619-0A91-4322-B2C5-751016380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23752" t="21000" r="20625" b="15000"/>
          <a:stretch/>
        </p:blipFill>
        <p:spPr>
          <a:xfrm>
            <a:off x="457200" y="380880"/>
            <a:ext cx="8265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23126" t="22001" r="22503" b="10001"/>
          <a:stretch/>
        </p:blipFill>
        <p:spPr>
          <a:xfrm>
            <a:off x="685800" y="304920"/>
            <a:ext cx="7620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3:51:58Z</dcterms:created>
  <dc:creator>sf</dc:creator>
  <dc:description/>
  <dc:language>en-US</dc:language>
  <cp:lastModifiedBy>sf</cp:lastModifiedBy>
  <dcterms:modified xsi:type="dcterms:W3CDTF">2011-01-05T14:01:47Z</dcterms:modified>
  <cp:revision>1</cp:revision>
  <dc:subject/>
  <dc:title>Slide 1</dc:title>
</cp:coreProperties>
</file>